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0FC7-EBFE-4CDE-8DAD-624FC28E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A61C-F49F-4246-8031-103C2161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9AA-0C37-4E9F-B505-E1EDCA51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6F9-0867-4FEF-A703-2D55CA33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64C1-473B-4F12-8C2A-1C8547B3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5011-88FE-427B-9519-4697E419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9198-6CF4-4D52-B259-E99E419C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1AE9-C40B-4C9A-AF13-EFC968B8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E7E6-0CF6-4CD9-A1B1-45D32090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1EAE-378F-4F7E-9DE4-A40613C5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35CF-800C-4D1B-833A-13423799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FAE-D1E0-447C-A010-FFEFF9EF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8AAE-D84A-4141-ACBD-8C654956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AD98-ECD7-417F-9E7D-C8C2CD64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1CAE-BC52-48F2-A274-D91F3081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3720-5B78-4E36-8834-9554D5B7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4651-2FA4-47BD-9E46-5A030E6F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003-D023-4010-B891-C361946D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586-21D7-4489-A600-1899ABAA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E17-984B-410D-A5A1-96935E4D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045-1DDD-4A4C-8085-EC0E61A2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E6E-A5A3-4743-BE5B-7E66BE30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38C-79BD-4F76-9436-A822848B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4D0-4BEC-4139-B99C-F5148D5C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8215-9700-4C0D-9FBA-0B7B37B08C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5B30-892D-40CA-BE5E-0F57ED06600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yvideotalk.net/" TargetMode="External"/><Relationship Id="rId2" Type="http://schemas.openxmlformats.org/officeDocument/2006/relationships/hyperlink" Target="http://www.webcamsoft.com/en/wmail.html" TargetMode="External"/><Relationship Id="rId3" Type="http://schemas.openxmlformats.org/officeDocument/2006/relationships/hyperlink" Target="http://live.clipstream.com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ternet4classrooms.com/on-line_powerpoint.htm#download" TargetMode="External"/><Relationship Id="rId2" Type="http://schemas.openxmlformats.org/officeDocument/2006/relationships/hyperlink" Target="http://www.teachnet.com/lesson/misc/winnergame022500.html" TargetMode="External"/><Relationship Id="rId3" Type="http://schemas.openxmlformats.org/officeDocument/2006/relationships/hyperlink" Target="http://www.shambles.net/pages/school/PowerP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772400" cy="1736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gital Video Tips and Techniques for the Classroo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 Ann B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brary Media Specialist at Camanche High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hor and instructor of the online cour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hor of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reating Digital Video for Your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act of Visual Lite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rn to us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ntury ski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rn to use higher order thinking ski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roves decision mak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roves creative think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roves collaboration ski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s and reinforces content knowle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eals to multiple intellig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5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ideo Emai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Video Talk: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myvideotalk.n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bCam Mail: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webcamsoft.com/en/wmail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pStream: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live.clipstream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werPoint Web Si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PP in the Classroom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internet4classrooms.com/on-line_powerpoint.htm#downlo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erPoint games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teachnet.com/lesson/misc/winnergame022500.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ga Resource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www.shambles.net/pages/school/PowerP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514600" y="2590920"/>
            <a:ext cx="380988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OCE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quiring Wave Fi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1 Free Sound Effects  www.a1freesoundeffects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aily .Wav  www.dailywav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ways.com www.funways.com(GERMA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ners in Rhyme  www.partnersinrhyme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el Wavs.co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.reelwavs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nd America  www.soundamerica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Source.com  www.wavsource.co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ding Mov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51160" y="2940120"/>
            <a:ext cx="2508120" cy="1474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1337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39806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130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9T01:24:02Z</dcterms:created>
  <dc:creator>Preferred Customer</dc:creator>
  <dc:description/>
  <dc:language>en-US</dc:language>
  <cp:lastModifiedBy>Mrs.Duplichan</cp:lastModifiedBy>
  <dcterms:modified xsi:type="dcterms:W3CDTF">2005-07-19T17:50:04Z</dcterms:modified>
  <cp:revision>10</cp:revision>
  <dc:subject/>
  <dc:title>Digital Video Tips and Techniques for the Classroom</dc:title>
</cp:coreProperties>
</file>